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61C0-D50B-4C8B-B08F-3CD33BFA8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5395-32C7-445B-81AE-8DBAB9D3C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1C42-5AF5-467B-B65B-DCB853A8B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E26F-3662-4BDD-80EF-ADE99E507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E450-C314-4218-B2C9-6CE9C9334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A22B-15A0-48C2-913F-735AC7D81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9AC2-2E5D-4578-B22B-0A89A2176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8617-01CF-4A79-B5C8-8A4CE1C5D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B9CF-1026-4780-857F-9A499A59F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3610-A5B6-4C05-98AE-E2C868A48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EB0B-4846-4DED-89F2-D5D01E031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C18B-CB3E-4080-BD6F-1C67AACF6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86209-9101-411C-AD17-3B597EAAE0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Tahoma"/>
              </a:rPr>
              <a:t>The Divided Kingdom, Part 2</a:t>
            </a:r>
            <a:br>
              <a:rPr sz="4000"/>
            </a:br>
            <a:r>
              <a:rPr b="0" lang="en-US" sz="4000" spc="-1" strike="noStrike">
                <a:solidFill>
                  <a:srgbClr val="ffff66"/>
                </a:solidFill>
                <a:latin typeface="Tahoma"/>
              </a:rPr>
              <a:t>“Till There Was No Remedy”</a:t>
            </a:r>
            <a:endParaRPr b="0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048120"/>
            <a:ext cx="64008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Quarter 7, Lesson 8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 Chron. 26:21; 27:1-9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 Kings 15:5, 32-38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icah 1-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ges 111-11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Tahoma"/>
              </a:rPr>
              <a:t>Micah’s Message</a:t>
            </a:r>
            <a:br>
              <a:rPr sz="4000"/>
            </a:b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Micah 4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fore the glory of those last days, judgment must come upon the land because of the sins of the peop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rithe in agony, O daughter of Zion, like a woman in labor, for you must leave the city…you will go to Babylon” (4:10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Remember that Babylon was not yet a power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1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6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9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Tahoma"/>
              </a:rPr>
              <a:t>Micah’s Message</a:t>
            </a:r>
            <a:br>
              <a:rPr sz="4000"/>
            </a:b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Micah 4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ut again, God promises a remnant will retur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n, a spiritual remnant will be born through which 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Messiah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will com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od will establish a new, strong spiritual kingdo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6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1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6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7720" y="228240"/>
            <a:ext cx="7620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Tahoma"/>
              </a:rPr>
              <a:t>Messianic Hope</a:t>
            </a:r>
            <a:br>
              <a:rPr sz="4000"/>
            </a:b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(Micah 5)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ruler will arise from a lowly birt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s ruler will be born of a virgin (Isa. 7:14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 will be born in a village –Bethlehem (5:2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 will be a great ruler – “One whose origins are from of old”  (5:2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3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8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3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76201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Tahoma"/>
              </a:rPr>
              <a:t>Messianic Hope</a:t>
            </a:r>
            <a:br>
              <a:rPr sz="4000"/>
            </a:b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(Micah 5)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83059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l enemies will be defeat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 power will stand against hi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ckedness and idolatry will be cut off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engeance will be meted ou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is prophecy fulfilled under Chr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5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0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5" dur="500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Tahoma"/>
              </a:rPr>
              <a:t>Jehovah and Israel in a Controversy (Lawsuit) </a:t>
            </a:r>
            <a:r>
              <a:rPr b="0" lang="en-US" sz="2800" spc="-1" strike="noStrike">
                <a:solidFill>
                  <a:srgbClr val="ffff66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(Micah 6)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Lord calls upon the mountains to witness in a lawsuit against the people (v. 3-5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people answer (v. 6-7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prophets speaks (v. 8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od speaks again (v. 9-16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2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7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2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7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Tahoma"/>
              </a:rPr>
              <a:t>The Way of Salvation</a:t>
            </a:r>
            <a:r>
              <a:rPr b="0" lang="en-US" sz="2800" spc="-1" strike="noStrike">
                <a:solidFill>
                  <a:srgbClr val="ffff66"/>
                </a:solidFill>
                <a:latin typeface="Tahoma"/>
              </a:rPr>
              <a:t> </a:t>
            </a:r>
            <a:br>
              <a:rPr sz="2800"/>
            </a:b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(Micah 7)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icah closes by confessing the sins of the peop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ut a few, a spiritual remnant, will look to the Lord for salv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 would keep His covenant with Abraham and Jacob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4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9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4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757080"/>
            <a:ext cx="9144000" cy="59374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876920" y="3124080"/>
            <a:ext cx="1066680" cy="762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920"/>
            <a:ext cx="548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We’re Studying THIS Stretch of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Tahoma"/>
              </a:rPr>
              <a:t>Jotham’s Reign</a:t>
            </a:r>
            <a:br>
              <a:rPr sz="2000"/>
            </a:b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2 Kings 15:5, 32-38; 2 Chron. 26:21; 27:1-9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4193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Juda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Jotham - 16 Years (Good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egan ruling at age 25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id what was right before Go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Walked in the ways of Uzziah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Except...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e did not enter illegally into the templ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mmon people were still practicing idolatr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ntinued to fortify the citi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othing evil recorded about hi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723920" y="1600200"/>
            <a:ext cx="4038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Isra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n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Year of Peka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" dur="5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" dur="5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" dur="500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" dur="500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" dur="500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Tahoma"/>
              </a:rPr>
              <a:t>Subjugation of the Ammonites</a:t>
            </a:r>
            <a:br>
              <a:rPr sz="4000"/>
            </a:b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2 Chron. 27:5-6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4800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Juda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Jotham conquered the Ammonit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mmonites forced to pay Jotham 3 ¾ tons of silver, 62,000 bushels of wheat, 62,000 bushels of barley for three years in a row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Jotham grew powerful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becaus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he walked before Go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257800" y="1599840"/>
            <a:ext cx="365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Isra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ka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Tahoma"/>
              </a:rPr>
              <a:t>The Prophet Micah</a:t>
            </a:r>
            <a:r>
              <a:rPr b="0" lang="en-US" sz="3600" spc="-1" strike="noStrike">
                <a:solidFill>
                  <a:srgbClr val="ffff66"/>
                </a:solidFill>
                <a:latin typeface="Tahoma"/>
              </a:rPr>
              <a:t> </a:t>
            </a:r>
            <a:br>
              <a:rPr sz="3600"/>
            </a:br>
            <a:r>
              <a:rPr b="0" lang="en-US" sz="2800" spc="-1" strike="noStrike">
                <a:solidFill>
                  <a:srgbClr val="ffff66"/>
                </a:solidFill>
                <a:latin typeface="Tahoma"/>
              </a:rPr>
              <a:t>(The Book of Micah)</a:t>
            </a: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phesied in the days of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otham,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haz, and Hezekia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temporary of Isaia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prophet of the villages, dealt with personal religion and social moral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demned empty worship from those whose lives were morally and spiritually bankrup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et, he grieved for his peop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9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4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9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Tahoma"/>
              </a:rPr>
              <a:t>Judgment Pronounced Upon Israel and Judah</a:t>
            </a:r>
            <a:r>
              <a:rPr b="0" lang="en-US" sz="3600" spc="-1" strike="noStrike">
                <a:solidFill>
                  <a:srgbClr val="ffff66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(Micah 1)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proud city of Samaria (Israel) will be made as heap in a field  (1:6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er idols will be broken in piec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er wound is incurable” (1:9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he sold herself to other gods as a harlot for hi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6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9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2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5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Tahoma"/>
              </a:rPr>
              <a:t>Judgment Pronounced Upon Judah</a:t>
            </a:r>
            <a:r>
              <a:rPr b="0" lang="en-US" sz="3600" spc="-1" strike="noStrike">
                <a:solidFill>
                  <a:srgbClr val="ffff66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(Micah 2-3)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erusalem (Judah) warn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icked wealthy class, who oppressed the poor, will receive a disaster from Go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alse prophets, who were being paid to cry “Peace”, will be condemn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Zion and Jerusalem will be completely overthrow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temple will be plowed as a fiel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2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7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0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3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6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Tahoma"/>
              </a:rPr>
              <a:t>Future Exaltation of God’s People</a:t>
            </a:r>
            <a:br>
              <a:rPr sz="4000"/>
            </a:b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Micah 2:12-13; 4:11-5:15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od’s judgment will be fierce, but his anger will not burn forev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icah gave a glorious promise - the return of the faithful remnant from all twelve tribes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2:12-13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3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8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Tahoma"/>
              </a:rPr>
              <a:t>Future Exaltation of God’s People</a:t>
            </a:r>
            <a:br>
              <a:rPr sz="4000"/>
            </a:b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Micah 2:12-13; 4:11-5:15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 the “last day” God’s government will be restor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l nations will flow into 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law will go forth from Jerusale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t will be a kingdom of pea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lame and the halt will be the core of the kingdo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Lord will reign over the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od’s plan will come to frui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8T01:29:00Z</dcterms:created>
  <dc:creator>Don Vines</dc:creator>
  <dc:description/>
  <dc:language>en-US</dc:language>
  <cp:lastModifiedBy>Frank D Vines</cp:lastModifiedBy>
  <dcterms:modified xsi:type="dcterms:W3CDTF">2006-02-02T00:14:15Z</dcterms:modified>
  <cp:revision>47</cp:revision>
  <dc:subject/>
  <dc:title>The Divided Kingdom, Part 2 “Till There Was No Remedy”</dc:title>
</cp:coreProperties>
</file>